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618-AD85-40F8-9970-BDC9057C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653-78FF-4E5F-BA83-492965D7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593-1708-42DB-8FE0-824082AA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906-BC47-4EB1-9760-C491ED49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2FA-F439-46B0-9594-B5E79BA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191-293E-443A-9678-D8229D1E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D4A-E7E9-4220-BAE8-20639A79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F76-9496-4D46-8096-EAB87217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E60-037F-43F0-A9C5-656D876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24E-9BD1-472E-AF5C-A06B866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B14-F14F-48D1-93BD-684876FD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FBF-03C9-43E4-A48D-AC70803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0F42A0F1-93E8-469C-A16F-55153459EA11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esentation Titl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sub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title,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for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opic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opic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106-ECDD-421C-951E-4125D6FFB2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project, started March 2006, funded by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3E3-3AFC-4C26-BEE9-AC4DA822FE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RNET Pty Ltd.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, The 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o Nacional de Informacion Geografica,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lmers Tekniska Hoegskola Aktiebolag, 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wealth Scientific and Industrial Research Organization (CSIRO)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ll University,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y of Advanced Network Technology to Europe Ltd. (DANTE),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ituto Nazionale di Astrofisica,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ytut Chemii Bioorganicznej PAN, Po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Planck Gesellschaft zur Foerderung der Wissenschaften e.V.,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Research Foundation, South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Net b.v., The 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knillinen Korkeakoulu, F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niversity of Manchester,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idad de Concepcion,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wersytet Mikolaja Kopernika, Po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spils Augstskola, Lat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8D3-AA62-4A0E-BA79-1D7DFB3325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635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elescope sites participa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courtesy of Dr. Francisco Colo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B1C-5435-4D1F-BCE8-DA5E42BBAF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 Garrett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234-9876-4335-BF30-5E7250B872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tit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]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E0A-28C1-41F8-B068-003D920698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6-11-08T09:36:12Z</dcterms:modified>
  <cp:revision>20</cp:revision>
  <dc:subject/>
  <dc:title>Slide 1</dc:title>
</cp:coreProperties>
</file>